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87E4-AD05-4D92-A59C-BF8E90647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A1F6-E5AF-4C1A-A5EF-686051310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CF83-2CB1-416D-A331-B4CA31A2D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42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888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96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42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888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45F2-5354-48B3-B03C-26578DD39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822-43E0-4F19-A9D5-018F7841F1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64E-C40C-4683-A969-A2D7414BE9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827-2D3A-4C3C-99D1-A954128886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16C-2D19-48C9-945A-E40982EAD9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A6D-B9F8-4CDF-8B4A-31286B3006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377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DE5-DFA9-4E19-833F-D12BD9D109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905-B9AA-410F-864C-3C17B6D10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F382-3EEE-4DE8-92D4-765FF1131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FAB-B558-4B0D-B747-0FDFEE60F6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9DF-7DDE-4796-8CB2-3BB1B9701D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F63-6521-4920-9EF3-96ACD96CFF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D58-86B9-458B-B619-99379A06DC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42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888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796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42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888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E85-1680-4C93-A296-84BBB4E49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6DFD-DEF6-4952-9805-F9CB0464D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99D6-FD86-4216-99A7-4F1E06B66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1A87-1CCB-497C-9073-50D9BDA0A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377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BE2E-6F40-4FE6-A581-79B24DCE7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36F2-786A-475C-8DCB-099D34E05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2DE8-031C-4964-B158-73EB1865F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638E-6B3D-4859-B1E8-5807F7014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79280" y="1988640"/>
            <a:ext cx="784836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1" marL="533520" indent="-16848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2" marL="898560" indent="-18576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3" marL="1338120" indent="-260280">
              <a:lnSpc>
                <a:spcPct val="140000"/>
              </a:lnSpc>
              <a:buClr>
                <a:srgbClr val="4a4a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4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5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6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079640" y="6297480"/>
            <a:ext cx="720072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604360" y="6297480"/>
            <a:ext cx="288720" cy="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0E00-CA9B-490C-9CCE-7F6276CD6BB9}" type="slidenum"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79280" cy="6859440"/>
          </a:xfrm>
          <a:prstGeom prst="rect">
            <a:avLst/>
          </a:prstGeom>
          <a:solidFill>
            <a:srgbClr val="5ba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079280" y="1196640"/>
            <a:ext cx="78483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44000" y="6297480"/>
            <a:ext cx="43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Arial"/>
              </a:rPr>
              <a:t>Seite</a:t>
            </a:r>
            <a:endParaRPr b="0" lang="en-US" sz="1100" spc="-1" strike="noStrike">
              <a:solidFill>
                <a:srgbClr val="4a4a4a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64640" y="358920"/>
            <a:ext cx="928440" cy="217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079640" y="358920"/>
            <a:ext cx="194472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7701120" y="6297480"/>
            <a:ext cx="1064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Seite </a:t>
            </a:r>
            <a:fld id="{78A9BD7F-8825-44BC-BDBE-C422634D6C4B}" type="slidenum"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79280" cy="6859440"/>
          </a:xfrm>
          <a:prstGeom prst="rect">
            <a:avLst/>
          </a:prstGeom>
          <a:solidFill>
            <a:srgbClr val="be3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4360" y="620640"/>
            <a:ext cx="1536840" cy="36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nformationssystem Medienpädagogik"/>
          <p:cNvPicPr/>
          <p:nvPr/>
        </p:nvPicPr>
        <p:blipFill>
          <a:blip r:embed="rId3"/>
          <a:srcRect l="0" t="0" r="32248" b="-567"/>
          <a:stretch/>
        </p:blipFill>
        <p:spPr>
          <a:xfrm>
            <a:off x="468360" y="549360"/>
            <a:ext cx="4390920" cy="50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a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 lvl="1" marL="263520" indent="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2" marL="622440" indent="171360" algn="ctr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3" marL="973080" indent="181080" algn="ctr">
              <a:lnSpc>
                <a:spcPct val="140000"/>
              </a:lnSpc>
              <a:buClr>
                <a:srgbClr val="4a4a4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4" marL="1828800" indent="11160" algn="ctr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 lvl="5" marL="1828800" indent="11160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 lvl="6" marL="1828800" indent="11160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ism-info.de/start.html" TargetMode="External"/><Relationship Id="rId3" Type="http://schemas.openxmlformats.org/officeDocument/2006/relationships/hyperlink" Target="http://www.ism-info.de/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20500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herche im Informationssystem Medienpädag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5640" y="3860640"/>
            <a:ext cx="637236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a4a"/>
                </a:solidFill>
                <a:latin typeface="Arial"/>
              </a:rPr>
              <a:t>Ein einführendes Tutorial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00360" y="2781360"/>
            <a:ext cx="100800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133720"/>
            <a:ext cx="270216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Freitext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allen vorhandenen Felder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chlagworte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Schlagwort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ersonen,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Pers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Titel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Titeln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Jahr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Jahreszahl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nstituti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nstituti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SB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SBN – Nummer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endung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Rundfunk- und Fernsehsendung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708000" y="2637000"/>
            <a:ext cx="2592360" cy="504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laufenden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ierte Suche nach mehreren Projekt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68360" y="3933720"/>
            <a:ext cx="100836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076640"/>
            <a:ext cx="30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Erlaubt die Such auf laufende oder abgeschlossene Projekte zu beschränk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276360" y="4292280"/>
            <a:ext cx="115092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2000" y="3068640"/>
            <a:ext cx="723600" cy="28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587640" y="3357720"/>
            <a:ext cx="505080" cy="792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414972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ie Register öffnen eine Übersicht aller in der Datenbank vorhandenen Schlagworte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27280" y="2781360"/>
            <a:ext cx="100800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2349360"/>
            <a:ext cx="270216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Freitext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allen vorhandenen Felder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chlagworte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Schlagwort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rojekttitel,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Projekttitel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nstituti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nstituti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Laufend im Jahr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Jahren in denen ein Projekt lief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ers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beteiligten Pers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el Spaß bei der Recher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7596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a4a4a"/>
                </a:solidFill>
                <a:latin typeface="Arial"/>
              </a:rPr>
              <a:t>Für Fragen wenden Sie sich bitte an ism@dipf.d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6832440" cy="42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39640" y="1341360"/>
            <a:ext cx="8077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ssystem Medienpädagogik</a:t>
            </a:r>
            <a:endParaRPr b="0" lang="en-US" sz="3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0" name="">
            <a:hlinkClick r:id="rId2"/>
          </p:cNvPr>
          <p:cNvSpPr/>
          <p:nvPr/>
        </p:nvSpPr>
        <p:spPr>
          <a:xfrm>
            <a:off x="5867280" y="5953320"/>
            <a:ext cx="2913120" cy="296280"/>
          </a:xfrm>
          <a:prstGeom prst="rect">
            <a:avLst/>
          </a:prstGeom>
          <a:solidFill>
            <a:srgbClr val="008000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3"/>
              </a:rPr>
              <a:t>www.ism-info.de</a:t>
            </a:r>
            <a:endParaRPr b="0" lang="en-US" sz="1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2492280"/>
            <a:ext cx="8076960" cy="34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urnachweise zu medienpädagogischen Themenfelder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asuch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ang zu den Datenbanken des ISM und seiner Partner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uche nach Medi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uche nach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en über Veranstaltung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entipps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uelles von den beteiligten Institution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685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Informationssystem Medienpädagogik bietet Ihnen</a:t>
            </a:r>
            <a:endParaRPr b="0" lang="en-US" sz="28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bankübergreifende, parallele Recherche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banken können individuell ausgewählt und kombiniert werd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93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95640" y="2708280"/>
            <a:ext cx="1079280" cy="100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71628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lder zur Auswahl relevanter Bereiche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132000" y="3573000"/>
            <a:ext cx="2735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2565360"/>
            <a:ext cx="2592360" cy="1224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227664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elder für die Eingabe von Suchbegriff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96000" y="2781360"/>
            <a:ext cx="936720" cy="216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645000"/>
            <a:ext cx="1079640" cy="8665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4292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Auswahlfelder für die Datenbanken, die in die Suche einbezogen werd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492000" y="4149720"/>
            <a:ext cx="1800360" cy="503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12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016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68360" y="2708280"/>
            <a:ext cx="648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060640"/>
            <a:ext cx="309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esen Feldern kann die Auswahl getroffen werden in welchen Bereichen der Datenbanken gesucht werden sol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50028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ei Titel / Name wird nach dem Titel eines Werks oder dem Namen eines Autore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924280"/>
            <a:ext cx="435240" cy="217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27640" y="414972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ei Freitext wird nach dem eingegebenen Wort in allen Felder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3141720"/>
            <a:ext cx="721080" cy="216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79736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Bei Schlagwörter / Ort wird nach Schlagwörtern und/oder Orte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16000" y="2924280"/>
            <a:ext cx="1584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771280" y="3068280"/>
            <a:ext cx="1729080" cy="115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843280" y="3357720"/>
            <a:ext cx="1657440" cy="1584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2349360"/>
            <a:ext cx="1368360" cy="136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76720" y="2349360"/>
            <a:ext cx="259056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12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Medi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beteiligten Person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ierte Suche nach mehreren Medi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rche nach englisch oder deutschen Dokumen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online verfügbaren Dokumen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agwort und Personen Register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3640" y="3933720"/>
            <a:ext cx="3816360" cy="93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6920" y="3933720"/>
            <a:ext cx="30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In diesen Feldern können Sie Ihre Suchanfrage genauer spezifizier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579640" y="4508640"/>
            <a:ext cx="576360" cy="72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2000" y="2997360"/>
            <a:ext cx="720720" cy="647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005360"/>
            <a:ext cx="331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ie Register öffnen jeweils eine Übersicht aller in der Datenbank vorhandenen Schlagworte oder Person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659280" y="3573000"/>
            <a:ext cx="36036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23:44Z</dcterms:created>
  <dc:creator>Gerda Balazs</dc:creator>
  <dc:description/>
  <dc:language>en-US</dc:language>
  <cp:lastModifiedBy>Siebold, Andres</cp:lastModifiedBy>
  <dcterms:modified xsi:type="dcterms:W3CDTF">2009-01-19T15:52:55Z</dcterms:modified>
  <cp:revision>5</cp:revision>
  <dc:subject/>
  <dc:title>Folie 1</dc:title>
</cp:coreProperties>
</file>